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C432-EDF1-48C4-9351-D9E37FD2F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AC3B-EB87-47F9-A656-91AA869C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4522-42CA-4A29-9AC6-2B1C51567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AEDF-28E0-49E4-AB04-3F21AD769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A934-8B3A-4E00-818F-1F80DF03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E992-55A0-4600-A102-64DF8CE1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2E05-F70A-47FF-AB14-0874FCEF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1FEC-5E33-4D90-B070-57952BB2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B50C-02D2-4E89-BCEE-A9C47C8D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9394-8298-498C-BB86-3867ABEC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E07A-3E44-48D4-98C3-7531A332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1760-4DD6-4F34-A45C-7CF2D1CC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1708-F5C7-463C-974B-BEF0EDE830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29280" y="1857240"/>
            <a:ext cx="49147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AdventureC"/>
              </a:rPr>
              <a:t>Иллюзии и интерпретации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AdventureC"/>
              </a:rPr>
              <a:t>Иеронима Босха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AdventureC"/>
              </a:rPr>
              <a:t>1450-1516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714240" y="785880"/>
            <a:ext cx="3857760" cy="505944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5572080" y="6143760"/>
            <a:ext cx="3571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0f0"/>
                </a:solidFill>
                <a:latin typeface="AdventureC"/>
              </a:rPr>
              <a:t>Фесенко Александр Оттович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0f0"/>
                </a:solidFill>
                <a:latin typeface="AdventureC"/>
              </a:rPr>
              <a:t>Учитель изобразительного искусст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0f0"/>
                </a:solidFill>
                <a:latin typeface="AdventureC"/>
              </a:rPr>
              <a:t>МБОУ «Высокоключевая СОШ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357800" y="5714640"/>
            <a:ext cx="49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Человек-дерево в пейзаже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9" name="Picture 5" descr="Человек-дерево в пейзаже"/>
          <p:cNvPicPr/>
          <p:nvPr/>
        </p:nvPicPr>
        <p:blipFill>
          <a:blip r:embed="rId2"/>
          <a:stretch/>
        </p:blipFill>
        <p:spPr>
          <a:xfrm>
            <a:off x="357120" y="306360"/>
            <a:ext cx="471492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5571720"/>
            <a:ext cx="28576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Искушение Святого Антония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1" name="Рисунок 3" descr="искушение Св Антония.jpg"/>
          <p:cNvPicPr/>
          <p:nvPr/>
        </p:nvPicPr>
        <p:blipFill>
          <a:blip r:embed="rId2"/>
          <a:stretch/>
        </p:blipFill>
        <p:spPr>
          <a:xfrm>
            <a:off x="2843280" y="0"/>
            <a:ext cx="63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Монстры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3" name="Picture 4" descr="монстры"/>
          <p:cNvPicPr/>
          <p:nvPr/>
        </p:nvPicPr>
        <p:blipFill>
          <a:blip r:embed="rId2"/>
          <a:stretch/>
        </p:blipFill>
        <p:spPr>
          <a:xfrm>
            <a:off x="357120" y="928800"/>
            <a:ext cx="862812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4"/>
          <p:cNvSpPr/>
          <p:nvPr/>
        </p:nvSpPr>
        <p:spPr>
          <a:xfrm>
            <a:off x="444600" y="5715000"/>
            <a:ext cx="27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вятой  Антоний.1500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Рисунок 3" descr="Св Антоний.jpg"/>
          <p:cNvPicPr/>
          <p:nvPr/>
        </p:nvPicPr>
        <p:blipFill>
          <a:blip r:embed="rId2"/>
          <a:stretch/>
        </p:blipFill>
        <p:spPr>
          <a:xfrm>
            <a:off x="3571920" y="0"/>
            <a:ext cx="4856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2"/>
          <p:cNvSpPr/>
          <p:nvPr/>
        </p:nvSpPr>
        <p:spPr>
          <a:xfrm>
            <a:off x="4811040" y="635796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знесение. 1504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Рисунок 3" descr="Вознесение.jpg"/>
          <p:cNvPicPr/>
          <p:nvPr/>
        </p:nvPicPr>
        <p:blipFill>
          <a:blip r:embed="rId2"/>
          <a:stretch/>
        </p:blipFill>
        <p:spPr>
          <a:xfrm>
            <a:off x="714240" y="0"/>
            <a:ext cx="294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2"/>
          <p:cNvSpPr/>
          <p:nvPr/>
        </p:nvSpPr>
        <p:spPr>
          <a:xfrm>
            <a:off x="1099800" y="628668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есение креста. 1515-1516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Рисунок 3" descr="Несение креста 1.jpg"/>
          <p:cNvPicPr/>
          <p:nvPr/>
        </p:nvPicPr>
        <p:blipFill>
          <a:blip r:embed="rId2"/>
          <a:stretch/>
        </p:blipFill>
        <p:spPr>
          <a:xfrm>
            <a:off x="4429080" y="0"/>
            <a:ext cx="367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1214280" y="1643040"/>
            <a:ext cx="18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u.wikipedia.org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Прямоугольник 2"/>
          <p:cNvSpPr/>
          <p:nvPr/>
        </p:nvSpPr>
        <p:spPr>
          <a:xfrm>
            <a:off x="1171440" y="228600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mallbay.ru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1214280" y="2714760"/>
            <a:ext cx="17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ibliotekar.ru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2617560" y="642960"/>
            <a:ext cx="31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Использованные ресурс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285840" y="1357200"/>
            <a:ext cx="8858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dventureC"/>
              </a:rPr>
              <a:t>Босх Хиеронимус ван Акен, (около 1450/60–1516), великий нидерландский живописец. Работал главным образом в Хертогенбосе в Северной Фландрии. Один из наиболее ярких мастеров раннего Северного Возрождения, Иероним Босх в своих многофигурных композициях сочетал изощренную средневековую фантастику с необычными для искусства его эпохи реалистическими новшествами. Стиль Босха уникален и не имеет аналогий в нидерландской живописной традиции. 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571680" y="2000160"/>
            <a:ext cx="857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ллю́з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лат. 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illusio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— заблуждение, обман) — искаженное восприятие реально существующего объекта или явлени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571680" y="3357720"/>
            <a:ext cx="10180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нтерпретац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 индивидуальная трактовка исполнителем исполняемог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изведения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214200" y="1720800"/>
            <a:ext cx="8501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Есть повод говорить, даже по прошествии  пяти сотен лет, об особом взгляде Босха на  жизнь и действитель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Он стоит особняком не только  среди современников и сограждан , но и в целом, значит мы имеем дело с гени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Слово иллюзорное вряд ли подходит в этом случае, но найти более подходящее  не удается. Босх интерпретирует  жизненные картины на своих полотнах  жестоко и точн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И мы видим что это вер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400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Несение креста. 1516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4" descr="D:\MyDoc\Документы - Папа\Комплексная программа\Репродукции\Брейгель\несение креста.jpg"/>
          <p:cNvPicPr/>
          <p:nvPr/>
        </p:nvPicPr>
        <p:blipFill>
          <a:blip r:embed="rId2"/>
          <a:stretch/>
        </p:blipFill>
        <p:spPr>
          <a:xfrm>
            <a:off x="2214720" y="571680"/>
            <a:ext cx="6124320" cy="55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6160" y="5928840"/>
            <a:ext cx="485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Увенчание терновым венком.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1490е – 1500е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1" name="Picture 4" descr="D:\MyDoc\Документы - Папа\Комплексная программа\Репродукции\Брейгель\увенчание терновым венком.jpg"/>
          <p:cNvPicPr/>
          <p:nvPr/>
        </p:nvPicPr>
        <p:blipFill>
          <a:blip r:embed="rId2"/>
          <a:stretch/>
        </p:blipFill>
        <p:spPr>
          <a:xfrm>
            <a:off x="1428840" y="428760"/>
            <a:ext cx="46670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500040" y="5214960"/>
            <a:ext cx="48578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Корабль дураков. 1490е-1500е .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3" name="Picture 4" descr="D:\MyDoc\Документы - Папа\Комплексная программа\Репродукции\Брейгель\корабль дураков.jpg"/>
          <p:cNvPicPr/>
          <p:nvPr/>
        </p:nvPicPr>
        <p:blipFill>
          <a:blip r:embed="rId2"/>
          <a:stretch/>
        </p:blipFill>
        <p:spPr>
          <a:xfrm>
            <a:off x="4000680" y="47520"/>
            <a:ext cx="344772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29200" y="5857920"/>
            <a:ext cx="3214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Блудный сын. 1503.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214200" y="428760"/>
            <a:ext cx="60724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414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Воз сена. 1500-1502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7" name="Рисунок 3" descr="Воз сена.jpg"/>
          <p:cNvPicPr/>
          <p:nvPr/>
        </p:nvPicPr>
        <p:blipFill>
          <a:blip r:embed="rId2"/>
          <a:stretch/>
        </p:blipFill>
        <p:spPr>
          <a:xfrm>
            <a:off x="3571920" y="0"/>
            <a:ext cx="487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6:56:12Z</dcterms:created>
  <dc:creator>Фесенко</dc:creator>
  <dc:description/>
  <dc:language>en-US</dc:language>
  <cp:lastModifiedBy>КарМаН</cp:lastModifiedBy>
  <dcterms:modified xsi:type="dcterms:W3CDTF">2012-04-24T10:39:42Z</dcterms:modified>
  <cp:revision>24</cp:revision>
  <dc:subject/>
  <dc:title>Иллюзии и ассоциации  Иеронима Босха 1450-1516</dc:title>
</cp:coreProperties>
</file>